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E5A64-B5EF-4A75-81B5-46D6C725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A0C0E-AA63-46C2-A0BD-3C7ABC10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D84F-7B6C-4005-A150-7FF878E8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8D0B-6390-4D79-A820-1FC1D47D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CBB6-F249-4B9E-86EC-E7257FD4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38F9-462F-47F4-B395-14C5F9EF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4AC7-6C63-423B-BC99-37A94DBE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5761-3E56-4EC8-8807-B5207346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E04A-11D3-422E-AD51-8FE6CA89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5ED4-AEA0-4AF8-B392-7D79671C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2263-7C2C-49AB-9B8D-68F37CF0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A0FB-E6A7-4520-AC49-B21BDDAC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DD85-A606-4CE6-A509-3D4FBFD0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F735-065A-4BE8-A711-94243B16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3B38-0F92-4544-8B68-20A04C8A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988E-ED90-4809-83D1-31EDD0F3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D289-ED0D-47E1-8DBE-D8E3AD75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27F0-3096-462A-A92C-6B5B8E9C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8DC09-3855-4F16-BBBB-1204F698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22420-C562-4EE7-9A04-238BEF05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31BD3-1AAC-47B7-B78B-2827299F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E4A95-00D0-4328-85D4-F4041E87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9586-C2D0-4404-83B8-6F2CCD0C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2CE95-3E2E-463F-B113-8BD1DFAE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3582-5E93-4730-A385-C9A44FD81C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7357-F45E-48B3-90EB-8404C316E9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ge of Absolutism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t’s good to be the King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 Five Causes of Absolutis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statements do you agree wi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A government leader should never have absolute autho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A government leader can exercise absolute authority if it will help advance the country’s ec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 A government leader can exercise absolute authority when the country is under att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) A government leader can exercise absolute authority whenever it will advance the country’s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Absolu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 The Monar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hillip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uis X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arles I and Oliver Crom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ria The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drick the G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Peter and Catherine the G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64771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8:48:01Z</dcterms:created>
  <dc:creator>shoyer</dc:creator>
  <dc:description/>
  <dc:language>en-US</dc:language>
  <cp:lastModifiedBy>shoyer</cp:lastModifiedBy>
  <dcterms:modified xsi:type="dcterms:W3CDTF">2007-11-07T19:09:47Z</dcterms:modified>
  <cp:revision>2</cp:revision>
  <dc:subject/>
  <dc:title>Age of Absolutism</dc:title>
</cp:coreProperties>
</file>